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3.wmf" ContentType="image/x-wmf"/>
  <Override PartName="/ppt/media/image5.png" ContentType="image/png"/>
  <Override PartName="/ppt/media/image33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36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1.jpeg" ContentType="image/jpeg"/>
  <Override PartName="/ppt/media/image10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12.png" ContentType="image/png"/>
  <Override PartName="/ppt/media/image44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8.png" ContentType="image/png"/>
  <Override PartName="/ppt/media/image6.png" ContentType="image/png"/>
  <Override PartName="/ppt/media/image4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-36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384768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2C682C-7934-4005-A83A-7C86AE291A1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50760" y="71424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0B11-9355-4C70-9815-37B4509B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A4B0-DE2E-47D6-9D0E-F0C05FF5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8BDF-522F-4822-82EA-DC951364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9128-59AA-4098-8750-FAB581C5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E91B-7555-4D8C-8EF8-32411BA9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BCFA-D7E9-4FD3-9CB7-1868B072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04D5-C7F9-425B-A5E5-DC3E4FE4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6D41-774E-45A8-99AE-0D96FF7A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8E1E-2B4C-4DE7-B2A1-BD1F1A87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C8A6-94B4-4EFA-97ED-571FEBD6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0EFA-3319-4F4D-BD38-67BD8470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B515-2BB8-4236-A6D5-B66B4E1E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24A5-A24A-44EB-ABB8-C9DA47B2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6B72-C059-4240-AD09-239EC7C4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8AFF-1550-4056-B4C8-6CD353AC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5045-70B2-46C0-873A-186277F5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1817-E114-4B4A-A5E5-E6EF3931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63DC9-06CA-4427-89E4-18ABC863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32FF9-F6C9-43FB-9268-E81BC9B6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1F905-5AE3-42B6-B248-460D6986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03311-53B4-45E7-A7BF-01952287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F7B58-42B4-4AEB-BC7B-FEADFE8D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3085-7DB9-4E1C-ACFD-12B33A16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72BB9-9F7E-42C8-9476-7B9DB211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2BD3E-21D8-4D10-BD5C-1E044EBA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E5C83-AB57-47D2-A046-50159CF1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FA227-300A-4F44-96A0-0C9E6ABA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B3979-16A1-4F33-B100-056BE9EB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3FE53-367E-4AA3-A778-C7B70944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56AF5-2B6B-4497-A7A4-924BA5CC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24CAD-B802-4597-8D57-A03568D9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4404C-034A-4D94-8394-FCDCA263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BA5B9-CE32-4E9E-B843-63E9E457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44EE-C7B4-41FB-8841-7BE31492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565CE-D4C2-4FDA-BE42-812E25C3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19BFC-E674-427F-838E-E07E96DA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D145E-7E29-404D-B11E-7DD24775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8BB3B-1E17-47C8-9EA5-606D85ED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239E5-21BC-4567-9E53-2B86F7FD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42D9D-801B-496C-A819-CFFB10EA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6915B-5BAE-4C10-B13D-41A995E2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2DE37-1B25-4FAB-892C-80C74E54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7B78B-3176-475D-AE3E-01B54102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1F4C4-6980-4683-9D80-46189163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0957-7555-4FD7-83D2-0B3FDECA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C86E7-EA0D-4BAF-9FAB-E051C875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9B5CF-EAB0-44F9-8413-99B2AE15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0D999-3C4B-4A76-84D2-F1B3668C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8335E-2F87-42F7-A598-1C034727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A42F4-0249-40E5-B8E1-60280E85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C472A-B142-4E3D-93CE-29E9453F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A77C9-5A23-4E19-BDC2-3FEADA41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E6DF4-1E97-4DAD-B492-4C96494D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361B4-6AE7-4F0B-B0CF-2AF7CC37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464AC-6C62-45BA-A443-B7CD8EFB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C3F5-2B90-4348-B501-935B9470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A9B0D-B2AA-4251-A699-0906848B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6385-DB04-4869-9717-07B7CE20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A893-AFB6-4109-AE78-D78C8A64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878E-9DB1-445D-AFEC-EEE8B215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9D7F-3B73-426F-9C6E-EB1452C00425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手繪多邊形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手繪多邊形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手繪多邊形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手繪多邊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接點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54F7-FFB1-41F3-A344-EBCB26C4F4C8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＞形箭號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F186-7213-4FEF-85ED-49FF3504E8C3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8D0E-6D0B-432E-B962-0715459CDD21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手繪多邊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直角三角形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直線接點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＞形箭號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FA46-42B8-4FA8-8598-0A4DA6F9944D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6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衛生署統計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1.05.2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9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7692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2976-E6D6-43AB-AB4E-A15723C142E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C3D5-31F3-4F31-A4FB-F1EF49C651B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0" descr=""/>
          <p:cNvPicPr/>
          <p:nvPr/>
        </p:nvPicPr>
        <p:blipFill>
          <a:blip r:embed="rId1"/>
          <a:stretch/>
        </p:blipFill>
        <p:spPr>
          <a:xfrm>
            <a:off x="0" y="836640"/>
            <a:ext cx="8817120" cy="5695920"/>
          </a:xfrm>
          <a:prstGeom prst="rect">
            <a:avLst/>
          </a:prstGeom>
          <a:ln w="0">
            <a:noFill/>
          </a:ln>
        </p:spPr>
      </p:pic>
      <p:sp>
        <p:nvSpPr>
          <p:cNvPr id="27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A419-3D7F-4E5D-B647-5E4E3E6EE9F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2" descr=""/>
          <p:cNvPicPr/>
          <p:nvPr/>
        </p:nvPicPr>
        <p:blipFill>
          <a:blip r:embed="rId1"/>
          <a:stretch/>
        </p:blipFill>
        <p:spPr>
          <a:xfrm>
            <a:off x="0" y="907920"/>
            <a:ext cx="8848800" cy="5334120"/>
          </a:xfrm>
          <a:prstGeom prst="rect">
            <a:avLst/>
          </a:prstGeom>
          <a:ln w="0">
            <a:noFill/>
          </a:ln>
        </p:spPr>
      </p:pic>
      <p:sp>
        <p:nvSpPr>
          <p:cNvPr id="276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830D-D23A-473B-BE37-6B95F7A8C55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8919-EF00-4A2C-B9A8-D6703EABF92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2E6C-99DF-463F-9849-4D4BCD5DB37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9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8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28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BC23-B4E1-42FF-979F-7253E48B209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7DBA-C8EE-4F17-BF33-66E24462C8E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8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69040"/>
          </a:xfrm>
          <a:prstGeom prst="rect">
            <a:avLst/>
          </a:prstGeom>
          <a:ln w="0">
            <a:noFill/>
          </a:ln>
        </p:spPr>
      </p:pic>
      <p:sp>
        <p:nvSpPr>
          <p:cNvPr id="28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4E03-B8CC-4345-9BC4-BA602AAA10A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744B-71B4-47AB-AE6D-E368D79EB44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9" descr=""/>
          <p:cNvPicPr/>
          <p:nvPr/>
        </p:nvPicPr>
        <p:blipFill>
          <a:blip r:embed="rId1"/>
          <a:stretch/>
        </p:blipFill>
        <p:spPr>
          <a:xfrm>
            <a:off x="0" y="549360"/>
            <a:ext cx="8848800" cy="5705280"/>
          </a:xfrm>
          <a:prstGeom prst="rect">
            <a:avLst/>
          </a:prstGeom>
          <a:ln w="0">
            <a:noFill/>
          </a:ln>
        </p:spPr>
      </p:pic>
      <p:sp>
        <p:nvSpPr>
          <p:cNvPr id="28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27CE-4F76-4F55-8320-2DA87CBC0C1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AD42-4E10-4191-8CAD-6C75AADFF41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" descr=""/>
          <p:cNvPicPr/>
          <p:nvPr/>
        </p:nvPicPr>
        <p:blipFill>
          <a:blip r:embed="rId1"/>
          <a:stretch/>
        </p:blipFill>
        <p:spPr>
          <a:xfrm>
            <a:off x="295200" y="620640"/>
            <a:ext cx="8848800" cy="5705640"/>
          </a:xfrm>
          <a:prstGeom prst="rect">
            <a:avLst/>
          </a:prstGeom>
          <a:ln w="0">
            <a:noFill/>
          </a:ln>
        </p:spPr>
      </p:pic>
      <p:sp>
        <p:nvSpPr>
          <p:cNvPr id="29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FC3B-B347-47FF-900D-E1370D1CCD5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1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918040"/>
          </a:xfrm>
          <a:prstGeom prst="rect">
            <a:avLst/>
          </a:prstGeom>
          <a:ln w="0">
            <a:noFill/>
          </a:ln>
        </p:spPr>
      </p:pic>
      <p:sp>
        <p:nvSpPr>
          <p:cNvPr id="29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0732-7E7D-4C7C-9F95-1DA0E91E9E1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D822-0198-482C-9A7A-3884B7A355F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1"/>
          <a:stretch/>
        </p:blipFill>
        <p:spPr>
          <a:xfrm>
            <a:off x="0" y="549360"/>
            <a:ext cx="8848800" cy="5810040"/>
          </a:xfrm>
          <a:prstGeom prst="rect">
            <a:avLst/>
          </a:prstGeom>
          <a:ln w="0">
            <a:noFill/>
          </a:ln>
        </p:spPr>
      </p:pic>
      <p:sp>
        <p:nvSpPr>
          <p:cNvPr id="29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4F58-8234-483F-9969-C69F94BE75D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7667-847F-4CEB-92FC-5B51C44A13E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0" y="620640"/>
            <a:ext cx="8388360" cy="5243760"/>
          </a:xfrm>
          <a:prstGeom prst="rect">
            <a:avLst/>
          </a:prstGeom>
          <a:ln w="0">
            <a:noFill/>
          </a:ln>
        </p:spPr>
      </p:pic>
      <p:pic>
        <p:nvPicPr>
          <p:cNvPr id="245" name="Rectangle 6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"/>
          <p:cNvPicPr/>
          <p:nvPr/>
        </p:nvPicPr>
        <p:blipFill>
          <a:blip r:embed="rId3"/>
          <a:stretch/>
        </p:blipFill>
        <p:spPr>
          <a:xfrm>
            <a:off x="2411280" y="5445000"/>
            <a:ext cx="4662720" cy="797040"/>
          </a:xfrm>
          <a:prstGeom prst="rect">
            <a:avLst/>
          </a:prstGeom>
          <a:ln w="0">
            <a:noFill/>
          </a:ln>
        </p:spPr>
      </p:pic>
      <p:sp>
        <p:nvSpPr>
          <p:cNvPr id="24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8432-12B0-4AC2-81D1-EDAA20B5609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2" descr=""/>
          <p:cNvPicPr/>
          <p:nvPr/>
        </p:nvPicPr>
        <p:blipFill>
          <a:blip r:embed="rId1"/>
          <a:stretch/>
        </p:blipFill>
        <p:spPr>
          <a:xfrm>
            <a:off x="147600" y="579600"/>
            <a:ext cx="8848800" cy="5705280"/>
          </a:xfrm>
          <a:prstGeom prst="rect">
            <a:avLst/>
          </a:prstGeom>
          <a:ln w="0">
            <a:noFill/>
          </a:ln>
        </p:spPr>
      </p:pic>
      <p:sp>
        <p:nvSpPr>
          <p:cNvPr id="300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4A4C-F539-4A9C-A10A-DD23C306404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8107-7125-4049-BBFB-93910E711AD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25EA-9D03-45E3-B7F4-9EAA889BA88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8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207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18EC-53A0-4D78-A7B4-B624E4281ED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5694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2FCB-2E38-47AB-8C85-92FDD77B001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0" descr=""/>
          <p:cNvPicPr/>
          <p:nvPr/>
        </p:nvPicPr>
        <p:blipFill>
          <a:blip r:embed="rId1"/>
          <a:stretch/>
        </p:blipFill>
        <p:spPr>
          <a:xfrm>
            <a:off x="147600" y="736560"/>
            <a:ext cx="884880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5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41840"/>
          </a:xfrm>
          <a:prstGeom prst="rect">
            <a:avLst/>
          </a:prstGeom>
          <a:ln w="0">
            <a:noFill/>
          </a:ln>
        </p:spPr>
      </p:pic>
      <p:sp>
        <p:nvSpPr>
          <p:cNvPr id="30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D1D0-2782-46CB-8CF0-F18EC7E8DB6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4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496000" cy="5597640"/>
          </a:xfrm>
          <a:prstGeom prst="rect">
            <a:avLst/>
          </a:prstGeom>
          <a:ln w="0">
            <a:noFill/>
          </a:ln>
        </p:spPr>
      </p:pic>
      <p:sp>
        <p:nvSpPr>
          <p:cNvPr id="31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2FC6-FB3A-4E25-BD0D-53F26A63AD0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89E5-7F9B-402F-9313-C2A4F35F7B8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3" descr=""/>
          <p:cNvPicPr/>
          <p:nvPr/>
        </p:nvPicPr>
        <p:blipFill>
          <a:blip r:embed="rId1"/>
          <a:stretch/>
        </p:blipFill>
        <p:spPr>
          <a:xfrm>
            <a:off x="0" y="620640"/>
            <a:ext cx="8848800" cy="5629320"/>
          </a:xfrm>
          <a:prstGeom prst="rect">
            <a:avLst/>
          </a:prstGeom>
          <a:ln w="0">
            <a:noFill/>
          </a:ln>
        </p:spPr>
      </p:pic>
      <p:sp>
        <p:nvSpPr>
          <p:cNvPr id="31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5264-0B30-444C-91BD-64ED6A62E31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1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488360" cy="6105600"/>
          </a:xfrm>
          <a:prstGeom prst="rect">
            <a:avLst/>
          </a:prstGeom>
          <a:ln w="0">
            <a:noFill/>
          </a:ln>
        </p:spPr>
      </p:pic>
      <p:sp>
        <p:nvSpPr>
          <p:cNvPr id="31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5755-D14B-4ED5-A89C-78D9C6FC7C2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4450-6276-4956-B82C-5EBACA77FFF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35344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C18B-3825-4DC7-A185-780E6239D07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01AE-4DD2-4AD1-9DF7-6D1A53ED878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0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920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/>
          <p:cNvPicPr/>
          <p:nvPr/>
        </p:nvPicPr>
        <p:blipFill>
          <a:blip r:embed="rId2"/>
          <a:stretch/>
        </p:blipFill>
        <p:spPr>
          <a:xfrm>
            <a:off x="0" y="620640"/>
            <a:ext cx="8388360" cy="52437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5484960" y="21096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慢性疾病死因占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年來事故傷害死因減幅最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DC7D-2136-4649-830E-C734A9A93D8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174D-A4A7-418A-97D6-1464A0C68DF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9" descr=""/>
          <p:cNvPicPr/>
          <p:nvPr/>
        </p:nvPicPr>
        <p:blipFill>
          <a:blip r:embed="rId1"/>
          <a:stretch/>
        </p:blipFill>
        <p:spPr>
          <a:xfrm>
            <a:off x="0" y="765000"/>
            <a:ext cx="8848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6F45-8E51-40F7-BABE-13CFD9D8049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9" descr=""/>
          <p:cNvPicPr/>
          <p:nvPr/>
        </p:nvPicPr>
        <p:blipFill>
          <a:blip r:embed="rId1"/>
          <a:stretch/>
        </p:blipFill>
        <p:spPr>
          <a:xfrm>
            <a:off x="147600" y="727200"/>
            <a:ext cx="8848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2" descr=""/>
          <p:cNvPicPr/>
          <p:nvPr/>
        </p:nvPicPr>
        <p:blipFill>
          <a:blip r:embed="rId1"/>
          <a:stretch/>
        </p:blipFill>
        <p:spPr>
          <a:xfrm>
            <a:off x="195120" y="617400"/>
            <a:ext cx="8753760" cy="5629320"/>
          </a:xfrm>
          <a:prstGeom prst="rect">
            <a:avLst/>
          </a:prstGeom>
          <a:ln w="0">
            <a:noFill/>
          </a:ln>
        </p:spPr>
      </p:pic>
      <p:sp>
        <p:nvSpPr>
          <p:cNvPr id="32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81FF-4C96-4CF2-BE55-53ED429291B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2626-83C4-4A5F-BDE8-286045343F91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WordArt 3"/>
          <p:cNvSpPr txBox="1"/>
          <p:nvPr/>
        </p:nvSpPr>
        <p:spPr>
          <a:xfrm>
            <a:off x="2700360" y="1628640"/>
            <a:ext cx="424800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簡報完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敬請指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2"/>
          <a:stretch/>
        </p:blipFill>
        <p:spPr>
          <a:xfrm>
            <a:off x="0" y="15825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5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5628-C357-482E-95D5-F47E4D68EDE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tretch/>
        </p:blipFill>
        <p:spPr>
          <a:xfrm>
            <a:off x="0" y="15825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1E1D-B1E5-4BD6-943D-2179681C61A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2"/>
          <a:stretch/>
        </p:blipFill>
        <p:spPr>
          <a:xfrm>
            <a:off x="612720" y="1503360"/>
            <a:ext cx="7916760" cy="3857760"/>
          </a:xfrm>
          <a:prstGeom prst="rect">
            <a:avLst/>
          </a:prstGeom>
          <a:ln w="0">
            <a:noFill/>
          </a:ln>
        </p:spPr>
      </p:pic>
      <p:sp>
        <p:nvSpPr>
          <p:cNvPr id="26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FF6B-B64B-4F1D-A07A-51D0612651A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612720" y="2106720"/>
            <a:ext cx="7916760" cy="3051000"/>
          </a:xfrm>
          <a:prstGeom prst="rect">
            <a:avLst/>
          </a:prstGeom>
          <a:ln w="0">
            <a:noFill/>
          </a:ln>
        </p:spPr>
      </p:pic>
      <p:sp>
        <p:nvSpPr>
          <p:cNvPr id="263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B92E-3092-498F-948A-6BF1194B4D2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683B-4EFD-4FCF-916B-E70AC320360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20BF-5800-4316-9F5E-1C7598D62D6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"/>
          <p:cNvPicPr/>
          <p:nvPr/>
        </p:nvPicPr>
        <p:blipFill>
          <a:blip r:embed="rId1"/>
          <a:stretch/>
        </p:blipFill>
        <p:spPr>
          <a:xfrm>
            <a:off x="147600" y="687240"/>
            <a:ext cx="88488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2973-2D02-4D89-83BE-7F73DCC9C15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1887480" y="42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1"/>
          <a:stretch/>
        </p:blipFill>
        <p:spPr>
          <a:xfrm>
            <a:off x="152280" y="741240"/>
            <a:ext cx="88394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2:00Z</dcterms:created>
  <dc:creator>行政院衛生署</dc:creator>
  <dc:description> </dc:description>
  <cp:keywords>民國100年死因記者會簡報</cp:keywords>
  <dc:language>en-US</dc:language>
  <cp:lastModifiedBy>ASUS</cp:lastModifiedBy>
  <dcterms:modified xsi:type="dcterms:W3CDTF">2012-05-23T20:01:33Z</dcterms:modified>
  <cp:revision>463</cp:revision>
  <dc:subject>衛生署中英文網站</dc:subject>
  <dc:title>民國100年死因記者會簡報</dc:title>
</cp:coreProperties>
</file>